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3DF-A208-49E3-96B5-D27F297E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B52-2CDF-4B17-8477-EAC154D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B25-DB83-4BBD-9110-A8824BF2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8D7-2F7B-4F64-90D1-DC6F5A4B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C58-798C-481B-AD71-ECD53CD7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7E0-77D6-454C-9078-70BF4A3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96C-1855-457E-B4AC-21DC9DD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C34-398D-454E-BC49-0CE82779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C99-17A2-4381-9D9A-7645894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1CE-0805-40D6-9927-F682EF6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5A5-D60E-49DE-9596-0A4B1A7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EC3-DF8D-423B-95E5-322696A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24A1-3D35-41C6-88E0-0910CD81CE9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Segoe Script"/>
              </a:rPr>
              <a:t>Despartirea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Segoe Script"/>
              </a:rPr>
              <a:t>SILA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21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Script MT Bold"/>
              </a:rPr>
              <a:t>Daca in viitor nu ar mai exista despartirea in silabe lumea ar desparti cuvintele in silabe cum ar crede e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4076640"/>
            <a:ext cx="3780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560" y="5157360"/>
            <a:ext cx="70930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Frincu Maria Ionela si Goldan Andreea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cls a VI-a B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Scoala cu cls I-VIII N. I. Jilinschi. Vern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9600" spc="-1" strike="noStrike">
                <a:solidFill>
                  <a:srgbClr val="000000"/>
                </a:solidFill>
                <a:latin typeface="Arial Unicode MS"/>
              </a:rPr>
              <a:t>SFARȘ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26716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0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99cc00"/>
                </a:solidFill>
                <a:latin typeface="Segoe Script"/>
              </a:rPr>
              <a:t>  </a:t>
            </a:r>
            <a:r>
              <a:rPr b="0" lang="ro-RO" sz="4000" spc="-1" strike="noStrike">
                <a:solidFill>
                  <a:srgbClr val="99cc00"/>
                </a:solidFill>
                <a:latin typeface="Segoe Script"/>
              </a:rPr>
              <a:t>SCOPUL proiectului nostru este de a arata elevilor care sunt regulile de despartire in sila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381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Despartirea in silab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Ce se va intampla in viitor                           daca nu ar mai exista                              DESPARTIREA IN SILABE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889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335772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1. O consoana intre doua vocale la despartirea in silabe trece la silaba urmato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392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2. Doua consoane intre doua vocale la despartirea in silabe trec prima la silaba dinainte si a doua la silaba urmato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Daca in grupul de doua consoane a doua este / sau r si prima este b,c,d,f,g,h,p,t,v, despartirea i nsilabe se face inaintea intregului grup.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2950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Segoe Script"/>
              </a:rPr>
              <a:t>3. Trei sau mai multe consoane intre doua vocale la despartirea in silabe trec prima la silaba dinainte si celelalte la silaba urmato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Segoe Script"/>
              </a:rPr>
              <a:t>    </a:t>
            </a:r>
            <a:r>
              <a:rPr b="0" lang="ro-RO" sz="3200" spc="-1" strike="noStrike">
                <a:solidFill>
                  <a:srgbClr val="000000"/>
                </a:solidFill>
                <a:latin typeface="Segoe Script"/>
              </a:rPr>
              <a:t>In cazul grupurilor de consoane ipt,mpt,ncs,nct,rct,rtf,stm,ndv, despartirea se face dupa a doua consoana din gr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4. Doua vocale in hiat se despart intre ele, facand parte din silabe diferi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Ex: a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r; a-le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; po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-zi-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e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5473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5. Cuvintele derivate se despart in silabe tinandu-se seama de elamentele lor componente: 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in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-sta-bil; des-ci-fra-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    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Unele prefixe sunt formate din doua silabe, fapt care trebuie respectat la despartirea in sila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an-ti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-so-ci-al; 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MV Boli"/>
              </a:rPr>
              <a:t>con-tra</a:t>
            </a:r>
            <a:r>
              <a:rPr b="0" lang="ro-RO" sz="3200" spc="-1" strike="noStrike">
                <a:solidFill>
                  <a:srgbClr val="000000"/>
                </a:solidFill>
                <a:latin typeface="MV Boli"/>
              </a:rPr>
              <a:t>-in-di-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30920" y="378936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Cuvantul poate fi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-Monosilabic: format dintr-o silab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Edwardian Script ITC"/>
              </a:rPr>
              <a:t>-Plurisilabic: format din doua sau mai multe sila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851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9:24:03Z</dcterms:created>
  <dc:creator>Adi</dc:creator>
  <dc:description/>
  <dc:language>en-US</dc:language>
  <cp:lastModifiedBy>Adi</cp:lastModifiedBy>
  <dcterms:modified xsi:type="dcterms:W3CDTF">2010-10-12T15:11:44Z</dcterms:modified>
  <cp:revision>5</cp:revision>
  <dc:subject/>
  <dc:title>Despartirea in </dc:title>
</cp:coreProperties>
</file>